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CB4C-E873-49F5-A366-5C34EBE0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EA86-D67C-464F-8140-76D981C5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796D-ADF7-4DC3-A35C-C0B37995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60BB-B9F4-44E1-B079-8512D692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8774-7624-45ED-AE46-56A3313F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F4DF-9744-4764-B594-AE79F043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18CF-3F2D-443B-9C7C-F159D3ED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C5E6-1605-4B24-A19E-64333AA5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1C5C-D070-40DF-A94B-92A0A427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99C4-DB5B-45D9-86F3-555367E9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4B81-E8B3-49EA-9915-87A62F78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12A2-CEC3-4897-9BB3-5793C11C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7E49-589C-41CF-ADC8-60A804B9A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%20título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%20título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in%20título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in%20título-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in%20título-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in%20título-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in%20título-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%20título-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in%20títul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16:19:53Z</dcterms:created>
  <dc:creator>Grupo Editorial</dc:creator>
  <dc:description/>
  <dc:language>en-US</dc:language>
  <cp:lastModifiedBy>Grupo Editorial</cp:lastModifiedBy>
  <dcterms:modified xsi:type="dcterms:W3CDTF">2001-11-14T16:21:48Z</dcterms:modified>
  <cp:revision>1</cp:revision>
  <dc:subject/>
  <dc:title>Sin título de diapositiva</dc:title>
</cp:coreProperties>
</file>